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709-84E6-4DD6-BB3A-9DD58AD8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F37-E4C6-4F44-A9BF-3E611588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E67-C067-4462-AEDF-B12C29F9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A6E-EF00-4E3E-887E-2FE82051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D4B-1CB2-46C3-9AC8-5F4261D8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5BB-F8E3-4542-9CAF-E4094AE5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A2B0-C81E-4CF4-B562-186E2EDD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42C2-653D-4B68-897E-F7415B3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F0DF-8F81-41E7-B256-87F455E6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3330-70E0-45B3-ABBB-38ABF50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6B6B-D0B2-4912-A69B-F9C4858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CEE-6988-4018-BD89-B0660C9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AAFC-D5BD-432F-BFA4-207DA07D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82D5-9FAD-43DC-8A9F-01799F9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E85C-F476-420C-A354-8B48E758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9FF5-838E-4DFA-BCBF-0F215740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F5EE-4181-4E44-B6C4-3737AD21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67D9B-BCB3-4309-8F79-A976DC1B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4BE10-FF1A-408C-A805-05FA1253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0320B-2499-49F7-8115-BADD0D70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B35F3-96E2-4518-BBF3-5380E4E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DCB45-7958-4934-8181-C09E765F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3E0-32CF-422F-9BBA-0AE3D0A6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4BAF8-28B2-46B4-A051-D62306F4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F5CF5-BFEE-4396-90F1-CB0DD385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724E3-1033-4EE4-99DD-9BC0599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A02D7-41CF-4103-98EB-C0A9FDFF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00314-804C-46D9-9177-9540C676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967C0-B402-4986-958C-A71ABE04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7C2FD-4792-4AD6-AC50-20E44781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92A1-C6AA-4368-AA6E-18499D24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B76BE-8476-4E16-A3A4-8A821FCC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B7CB-69EE-4108-AE1F-F48C5679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2F4-669A-4AE1-929B-D02CD754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4471-DA06-431A-AA31-56BFD04A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89C5-9704-4329-8C92-CAE1AD6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A98A-D757-4056-ADD1-EFD510C9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E3267-67AF-4978-8EF5-1CE6A6F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E011-3A98-4AE0-B2C5-F6BA853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1839-9007-4958-9821-B7141DC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C8B3-79AC-4F3C-AA0F-65DE1AD0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A90C-9735-4451-9315-DF6682AD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7A4E-9778-4504-B2BA-7D43BDBF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B3DC0-509E-494A-AA9A-E1620419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68F-A9AC-4740-BB99-29ACA4E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77320-8879-4C25-8416-A5370EC3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26C7B-EF74-4A60-9078-7313DB41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38731-A851-4E3E-8502-6B489CE6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7F9A5-58B9-4959-A126-9CC7F943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364B3-8879-4E22-B163-E429BDE4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BF3E9-58B5-4B8B-9883-9A785F01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54FDF-92D2-4708-AD4A-1E96E07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FD926-E0FA-4E9C-87A8-5E11F15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738B8-2004-4C11-88BE-498B7E4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D57B1-086D-442D-A54B-236C4D17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5EB-1284-4E07-A155-E8778198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03C2C-7969-406D-8A5F-E6D314B8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28CBD-A733-405C-B263-A219458A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072DA-BC4F-45B7-B001-770DF87D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93B99-E57C-4B16-AF9A-EC16F90B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A835A-899F-4F4E-BDD5-E2350BC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C8933-F5AD-4A9C-8F5D-7F665C89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09EC1-1FAA-4DE3-91F0-E654169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3FCED-7181-4CB3-BE6F-2137C68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2E322-6A1F-4A44-8CEF-06E4016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2DB0A-A894-44CE-849D-97389D9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E6A-B653-4818-ACC6-E2A2393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E7035-6D23-4F98-BE41-E74B7F0E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D343F-B697-49A9-BACE-641BB957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35931-FDF7-4C2C-9957-1B2E4B65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0BE4A-B939-4BE1-96B8-41F6BAA5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36225-8CF5-4823-BFD5-973A9BF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F4E6E-061E-4AE9-9274-8E56038D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B69E2-9C24-4FDA-9F24-907C6F4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B2505-DFA9-4DCC-A028-B070033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8A432-BA04-4108-B3F2-D0D60881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6797D-888B-4D58-9BB8-6BFC217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EB1-8C53-470E-AEF9-95EA1A27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6AD81-44BA-4651-9A64-438B12AC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B4C39-B3FF-4B13-B75F-1BDDCFB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3F0EB-E192-4B46-977C-737535B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82DFE-B3C0-4F7B-BD57-1C26662A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EAD69-FA44-4938-918F-E7846F79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3BB-C5E3-4BFE-9F08-3512FAF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3C18-E10B-4680-AA2A-0FD5D6D069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680-F6AA-4C59-BE3B-343FAD38C5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431-0746-40CB-9CCA-015D283763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BFBF-DDB4-43D5-A80E-BB852A48B7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4A92-4835-4244-9B82-B881F5FB4E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462F-372C-47FF-8B13-EB4CA77CCF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A3BC-AA65-408F-B786-390C68C46A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entury Schoolbook"/>
              </a:rPr>
              <a:t>ЧАСТИ РЕЧИ</a:t>
            </a:r>
            <a:endParaRPr b="0" lang="en-US" sz="44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зовите вопросы имени существительного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3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9C3F-F013-4C5E-9F3F-4F310922E8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2928960" y="185724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дел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дел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будет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2928960" y="400068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ой?  Ка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ое? 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3000240" y="5357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 Кто?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entury Schoolbook"/>
              </a:rPr>
              <a:t>ЧАСТИ РЕЧИ</a:t>
            </a:r>
            <a:endParaRPr b="0" lang="en-US" sz="44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6929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зовите вопросы имени прилагательного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01AC-F804-4BA3-9A06-93E1FCC793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2928960" y="185724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дел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дел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будет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2928960" y="400068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ой?  Ка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ое? 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3000240" y="5357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 Кто?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entury Schoolbook"/>
              </a:rPr>
              <a:t>ЧАСТИ РЕЧИ</a:t>
            </a:r>
            <a:endParaRPr b="0" lang="en-US" sz="44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28600" y="1214280"/>
            <a:ext cx="4786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зовите вопросы глагола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EDC-B7F9-44BB-B299-D21570E198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2928960" y="185724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дел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дел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будет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2928960" y="400068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ой?  Ка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ое? 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3000240" y="5357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 Кто?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entury Schoolbook"/>
              </a:rPr>
              <a:t>ЧАСТИ РЕЧИ</a:t>
            </a:r>
            <a:endParaRPr b="0" lang="en-US" sz="44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857240" y="1214280"/>
            <a:ext cx="6143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айдите имя существительное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1EB-2C32-4712-AB94-885163109E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2786040" y="22147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лад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2786040" y="32148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ре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2"/>
          <p:cNvSpPr/>
          <p:nvPr/>
        </p:nvSpPr>
        <p:spPr>
          <a:xfrm>
            <a:off x="2786040" y="42148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 Вч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786040" y="53578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.  Поля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entury Schoolbook"/>
              </a:rPr>
              <a:t>ЧАСТИ РЕЧИ</a:t>
            </a:r>
            <a:endParaRPr b="0" lang="en-US" sz="44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57240" y="1214280"/>
            <a:ext cx="6143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айдите имя  прилагательное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8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B90E-4739-470E-B035-CAF216B56C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2786040" y="22147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лад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2786040" y="32148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ре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2786040" y="42148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 Вч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3"/>
          <p:cNvSpPr/>
          <p:nvPr/>
        </p:nvSpPr>
        <p:spPr>
          <a:xfrm>
            <a:off x="2786040" y="53578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.  Поля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entury Schoolbook"/>
              </a:rPr>
              <a:t>ЧАСТИ РЕЧИ</a:t>
            </a:r>
            <a:endParaRPr b="0" lang="en-US" sz="44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86080" y="1214280"/>
            <a:ext cx="45007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айдите глагол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5" name="Номер слайда 9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4B7C-F2D6-4522-9104-0BE508F215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2786040" y="22147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лад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2786040" y="32148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ре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786040" y="42148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 Вч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2786040" y="53578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.  Поля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46:46Z</dcterms:created>
  <dc:creator>Игорь Саченко</dc:creator>
  <dc:description/>
  <dc:language>en-US</dc:language>
  <cp:lastModifiedBy>Игорь Саченко</cp:lastModifiedBy>
  <dcterms:modified xsi:type="dcterms:W3CDTF">2008-12-09T03:59:40Z</dcterms:modified>
  <cp:revision>4</cp:revision>
  <dc:subject/>
  <dc:title>Части речи</dc:title>
</cp:coreProperties>
</file>